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CAED-03E6-47D8-94D4-E0BBD79B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61E-2564-45E7-A097-40E246ED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F482-4A3F-444B-BD27-B25B11F5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B4D-78C2-4F18-B404-B8E20B87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D10E-18AC-4D32-9C08-716EBC90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B3F-3D00-4D61-9F8A-9E93ADE9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8A1-7E2B-43B0-80BA-3D31809B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262-B51F-49E5-BCFF-CED9A166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85DE-9C3E-4D2F-B600-D008CEED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803-AC8D-4D37-932B-E8137541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02F9-87CA-4DE3-914E-854C856C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BD0-41AE-401E-873A-50C71AA2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1BD6-D729-457C-97EE-3FE5F7449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o-economic model for assessing and anticipating economic impacts of RWMs in the Nile Bas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7200" y="736560"/>
            <a:ext cx="8153280" cy="80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Model type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gramming (optimization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d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Purpose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amework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mu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conomic impacts of RWM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cen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Indicator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rm income/prof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Model structure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fit = Gross income – c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962520" y="1828800"/>
            <a:ext cx="1752480" cy="685800"/>
          </a:xfrm>
          <a:prstGeom prst="rect">
            <a:avLst/>
          </a:prstGeom>
          <a:solidFill>
            <a:srgbClr val="1f49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ngsana New"/>
                <a:ea typeface="Angsana New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y </a:t>
            </a:r>
            <a:r>
              <a:rPr b="0" lang="en-US" sz="18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ngsana New"/>
                <a:ea typeface="Angsana Ne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4800" spc="-1" strike="noStrike">
                <a:solidFill>
                  <a:srgbClr val="ffffff"/>
                </a:solidFill>
                <a:latin typeface="Angsana New"/>
                <a:ea typeface="Angsana New"/>
              </a:rPr>
              <a:t>   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5"/>
          <p:cNvCxnSpPr/>
          <p:nvPr/>
        </p:nvCxnSpPr>
        <p:spPr>
          <a:xfrm>
            <a:off x="5333760" y="137160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" name="Rectangle 6"/>
          <p:cNvSpPr/>
          <p:nvPr/>
        </p:nvSpPr>
        <p:spPr>
          <a:xfrm>
            <a:off x="6095880" y="1828800"/>
            <a:ext cx="1752840" cy="685800"/>
          </a:xfrm>
          <a:prstGeom prst="rect">
            <a:avLst/>
          </a:prstGeom>
          <a:solidFill>
            <a:srgbClr val="1f497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ngsana New"/>
                <a:ea typeface="Angsana New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x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Angsana New"/>
                <a:ea typeface="Angsana New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8"/>
          <p:cNvCxnSpPr/>
          <p:nvPr/>
        </p:nvCxnSpPr>
        <p:spPr>
          <a:xfrm>
            <a:off x="6972120" y="137160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Rectangle 9"/>
          <p:cNvSpPr/>
          <p:nvPr/>
        </p:nvSpPr>
        <p:spPr>
          <a:xfrm>
            <a:off x="1371600" y="2819520"/>
            <a:ext cx="4343400" cy="175248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 fed crops (1, 2, 3, …, 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rigated crops (1, 2, 3, …, 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15"/>
          <p:cNvCxnSpPr/>
          <p:nvPr/>
        </p:nvCxnSpPr>
        <p:spPr>
          <a:xfrm>
            <a:off x="5310000" y="2514600"/>
            <a:ext cx="108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Rectangle 18"/>
          <p:cNvSpPr/>
          <p:nvPr/>
        </p:nvSpPr>
        <p:spPr>
          <a:xfrm>
            <a:off x="1371600" y="5029200"/>
            <a:ext cx="7238880" cy="1066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ize = f(land, fert., labor,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TP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Sept. – Oct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mato = f(land, fert., labor,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r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23"/>
          <p:cNvSpPr/>
          <p:nvPr/>
        </p:nvSpPr>
        <p:spPr>
          <a:xfrm flipH="1">
            <a:off x="914400" y="32004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25"/>
          <p:cNvSpPr/>
          <p:nvPr/>
        </p:nvSpPr>
        <p:spPr>
          <a:xfrm>
            <a:off x="914400" y="3200400"/>
            <a:ext cx="0" cy="2209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27"/>
          <p:cNvCxnSpPr/>
          <p:nvPr/>
        </p:nvCxnSpPr>
        <p:spPr>
          <a:xfrm>
            <a:off x="914400" y="5409720"/>
            <a:ext cx="4579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Straight Connector 2"/>
          <p:cNvSpPr/>
          <p:nvPr/>
        </p:nvSpPr>
        <p:spPr>
          <a:xfrm flipH="1">
            <a:off x="609120" y="3730680"/>
            <a:ext cx="83340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10"/>
          <p:cNvSpPr/>
          <p:nvPr/>
        </p:nvSpPr>
        <p:spPr>
          <a:xfrm>
            <a:off x="609480" y="3730680"/>
            <a:ext cx="0" cy="20606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12"/>
          <p:cNvCxnSpPr/>
          <p:nvPr/>
        </p:nvCxnSpPr>
        <p:spPr>
          <a:xfrm>
            <a:off x="609120" y="5790960"/>
            <a:ext cx="83916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457200" y="1295280"/>
                <a:ext cx="8001000" cy="22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rPr>
                            <m:lit/>
                            <m:nor/>
                          </m:rPr>
                          <m:t xml:space="preserve">ofit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h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bjec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ctor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source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ra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egativit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ra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11"/>
              <p:cNvSpPr txBox="1"/>
              <p:nvPr/>
            </p:nvSpPr>
            <p:spPr>
              <a:xfrm>
                <a:off x="1371600" y="4038480"/>
                <a:ext cx="5791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γ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γ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γ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59" name="Straight Arrow Connector 13"/>
          <p:cNvCxnSpPr/>
          <p:nvPr/>
        </p:nvCxnSpPr>
        <p:spPr>
          <a:xfrm flipH="1">
            <a:off x="1751760" y="1904760"/>
            <a:ext cx="2667960" cy="243900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Specification, calibration, and sim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53341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nd           EVT      Supp.Ir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18"/>
          <p:cNvCxnSpPr/>
          <p:nvPr/>
        </p:nvCxnSpPr>
        <p:spPr>
          <a:xfrm>
            <a:off x="3276360" y="4952520"/>
            <a:ext cx="108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22"/>
          <p:cNvCxnSpPr/>
          <p:nvPr/>
        </p:nvCxnSpPr>
        <p:spPr>
          <a:xfrm>
            <a:off x="4647960" y="4952520"/>
            <a:ext cx="108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Straight Arrow Connector 24"/>
          <p:cNvCxnSpPr/>
          <p:nvPr/>
        </p:nvCxnSpPr>
        <p:spPr>
          <a:xfrm>
            <a:off x="6019560" y="4952520"/>
            <a:ext cx="1080" cy="381960"/>
          </a:xfrm>
          <a:prstGeom prst="straightConnector1">
            <a:avLst/>
          </a:prstGeom>
          <a:ln w="2844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7467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Data need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op (activity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ource allo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tput and input pr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T and irrigation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t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ed data needs for calibr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linearity (captures effects of heterogeneit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s simulation at all levels of scenari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RWMs, yield, resource constraint, mix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ven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h as packages, etc …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6:11:55Z</dcterms:created>
  <dc:creator>Getnet, Kinde (IWMI)</dc:creator>
  <dc:description/>
  <dc:language>en-US</dc:language>
  <cp:lastModifiedBy>Getnet, Kinde (IWMI)</cp:lastModifiedBy>
  <dcterms:modified xsi:type="dcterms:W3CDTF">2011-02-25T06:17:03Z</dcterms:modified>
  <cp:revision>27</cp:revision>
  <dc:subject/>
  <dc:title>Bio-economic model for assessing and anticipating economic values</dc:title>
</cp:coreProperties>
</file>